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314-1BCB-440F-8CD7-906CCE3C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927-356A-4C2A-B367-ABD3E51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605-8A74-43F8-894A-9C7A9599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0DB-0852-4AB7-B270-744D83B0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1465-0F3C-4B8B-8D70-678E6890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142B-7B20-45C9-9EFB-425F8928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FB3-8E7C-438A-84D1-07353EE9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CA5-D0C1-46B1-AE35-05BAA70E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1A4F-4968-4727-9FC1-228E2DF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02FA-2C08-4A12-96BC-3258389C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12BA-9462-4C4E-9271-15298DD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466-040C-40A1-9864-E6132F94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14F1-A8CF-476A-A34E-FD3860A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4F71-82D7-44FF-A2E8-90C5CBD9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346-5FF4-4DED-B831-CDAC6D4F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155-EF4C-4635-9745-10D82BAE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C13-7D79-4182-93C1-BADCD97A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E6804-43EA-4343-BC52-B40BFB8A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F098-2B04-4090-85CB-E5764DDF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F833-EB2C-4683-BD94-B705A741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B5FB-265C-4337-85F8-AD059D8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6220-6FB8-43DF-B992-5CBB3C8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0BC-792C-409F-BBFE-750658B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4FB9-7AE5-4044-A773-3606E6EF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0D2C-4870-446D-9E49-C981E02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28CA-9DAA-4AF6-8346-E5D72EBE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6A5E-82E6-4AED-A0A4-0B6C5CE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7CAB-6AB7-4D54-BEC9-C35F157B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2B2C-16B1-4166-9CA2-3CF2D4E7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7757-7E93-4F3A-AE2F-20152B26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2A1A-2300-4784-A91A-FAF04B5C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DF40-FF87-415B-834A-E053413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C5B9-1272-4771-9B97-8EF7FF97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1B7-ADD6-4A2C-A55A-75C0425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5FA6A-3AA3-4078-9212-D923C5AC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1F8F-0925-4A81-B1B2-6F29030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C10C-C220-4B94-A2DB-CDC8389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C100-0A8D-41A1-BE4F-78A919E8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C3DF-4973-4ADF-9CAC-BB28E07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F09CC-0E24-436F-B534-586E8F9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5E5E-B4B2-4A8B-8545-66466375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8735-2FA2-48EC-B98E-6ACCEBE6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9873-4AA4-4E7E-828E-8553063B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8A83-DFF0-4C35-A456-7173F9A2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1AC-454D-4DC9-9F1A-C69297C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FC11-AA18-45D0-ADCB-74149B5F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BC87-D751-4FCB-8E26-3487C645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5691-949D-42D5-8F8F-E53E2E7C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D3843-38F6-4751-89E7-7B35234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9399-CDC9-4894-AD7A-6C0942A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4E415-42FB-4894-BA3C-EA4C1617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4753-4D10-4C00-B681-160E90E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4303-A3FB-4E35-9095-C8C3762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9639B-8490-4D89-9972-9DBEA5B2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F9A67-673C-4C05-979B-21814192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B7A-288D-44D1-A02A-4CDD957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B73F-7E4E-4636-A274-AAEAFF2F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8C9E3-2CF5-4DD7-82CB-12406B75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EE2E-5314-4172-AF39-21017F89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84760-23CD-4D78-B447-C49E3018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8115-B2F7-4CDB-B99A-5ECF14A9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493E-EB65-4451-A2EE-13BA7EB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7CEBE-1369-4D75-A2AC-13F8B93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5EAEA-B637-427D-83D7-A3EF92C2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6C30F-31E4-4EB1-88AB-DDEC4452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9DBE5-B56C-41D3-97F3-C985FC9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501-5469-4057-97E5-1C440CD5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60467-14F7-4E33-9D68-8F3C160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105C-9A55-4027-A5B5-5F4A8647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C4F8-04DB-4BA3-A3A3-F6816B2E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63ED-F048-411B-9879-EBE50AD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90980-79DC-472C-BFA8-E06B5819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6EA2A-FEC1-40C2-9540-482449DF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6F5E-EB58-4887-97A5-6FDEBC63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A0B93-2B7B-4BDF-A866-92A86F64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DD72-FBE5-4A95-97A7-DEBE996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40939-F4C5-4086-9E3A-AA78DB3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676-0D1B-451D-AE71-810FA7C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7EB97-0D6E-43AE-9432-B2E2385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787D-1B5D-44F5-8E51-62DA676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AE9A-76E2-48BF-BC08-D2B1B9E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2684-B299-4295-B04A-00C61DCF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C527D-FD16-4D7D-97AD-0D518FAB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EA3-FB4F-4185-BB49-D3F105D9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BBE-B5C5-4BB0-BCB2-1E862687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5B8C-4475-4C14-B6DC-7848B6DD2A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2E4-313C-4586-B932-207781D9E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08F8-7FC7-4AF2-8A23-DC4C88D79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725-8C2F-4E8A-8102-AE37929E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27C-83BA-4AE4-8BCF-0341AC91F70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223-B00B-40BB-93FB-6BBF89FCCBB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Satellite_image_of_Cape_peninsul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3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010360" cy="16272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6"/>
          <p:cNvSpPr/>
          <p:nvPr/>
        </p:nvSpPr>
        <p:spPr>
          <a:xfrm>
            <a:off x="6629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bd8"/>
                </a:solidFill>
                <a:latin typeface="Script MT Bold"/>
              </a:rPr>
              <a:t>O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6" descr="https://mkis4a.pbworks.com/f/Huacachina%20Oasis.jpeg"/>
          <p:cNvPicPr/>
          <p:nvPr/>
        </p:nvPicPr>
        <p:blipFill>
          <a:blip r:embed="rId2"/>
          <a:stretch/>
        </p:blipFill>
        <p:spPr>
          <a:xfrm>
            <a:off x="380880" y="2666880"/>
            <a:ext cx="5410440" cy="3381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3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762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19ff"/>
                </a:solidFill>
                <a:latin typeface="Script MT Bold"/>
              </a:rPr>
              <a:t>Mountain ran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Picture 6" descr="Rocky Mountains"/>
          <p:cNvPicPr/>
          <p:nvPr/>
        </p:nvPicPr>
        <p:blipFill>
          <a:blip r:embed="rId2"/>
          <a:stretch/>
        </p:blipFill>
        <p:spPr>
          <a:xfrm>
            <a:off x="533520" y="179856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150400" cy="1354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2" descr="http://www.musetrek.com/assets/photos/406/406/medium_1288902864263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http://t0.gstatic.com/images?q=tbn:ANd9GcQmOxrYNdZVnDZ9ivLZuG_KUtZNiu0_1UBaIbmKOMMHqc04ebaP4inzJjburg"/>
          <p:cNvPicPr/>
          <p:nvPr/>
        </p:nvPicPr>
        <p:blipFill>
          <a:blip r:embed="rId3"/>
          <a:stretch/>
        </p:blipFill>
        <p:spPr>
          <a:xfrm>
            <a:off x="304920" y="3429000"/>
            <a:ext cx="3687480" cy="27622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1676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Box 15"/>
          <p:cNvSpPr/>
          <p:nvPr/>
        </p:nvSpPr>
        <p:spPr>
          <a:xfrm>
            <a:off x="60958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Straight Arrow Connector 19" descr=""/>
          <p:cNvPicPr/>
          <p:nvPr/>
        </p:nvPicPr>
        <p:blipFill>
          <a:blip r:embed="rId4"/>
          <a:stretch/>
        </p:blipFill>
        <p:spPr>
          <a:xfrm>
            <a:off x="4498920" y="3230640"/>
            <a:ext cx="2206800" cy="1371600"/>
          </a:xfrm>
          <a:prstGeom prst="rect">
            <a:avLst/>
          </a:prstGeom>
          <a:ln w="0">
            <a:noFill/>
          </a:ln>
        </p:spPr>
      </p:pic>
      <p:pic>
        <p:nvPicPr>
          <p:cNvPr id="340" name="Straight Arrow Connector 21" descr=""/>
          <p:cNvPicPr/>
          <p:nvPr/>
        </p:nvPicPr>
        <p:blipFill>
          <a:blip r:embed="rId5"/>
          <a:stretch/>
        </p:blipFill>
        <p:spPr>
          <a:xfrm>
            <a:off x="2365200" y="3230640"/>
            <a:ext cx="17496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41" name="TextBox 22"/>
          <p:cNvGrpSpPr/>
          <p:nvPr/>
        </p:nvGrpSpPr>
        <p:grpSpPr>
          <a:xfrm>
            <a:off x="-79200" y="1139760"/>
            <a:ext cx="2371680" cy="2468520"/>
            <a:chOff x="-79200" y="1139760"/>
            <a:chExt cx="2371680" cy="2468520"/>
          </a:xfrm>
        </p:grpSpPr>
        <p:pic>
          <p:nvPicPr>
            <p:cNvPr id="342" name="TextBox 22" descr=""/>
            <p:cNvPicPr/>
            <p:nvPr/>
          </p:nvPicPr>
          <p:blipFill>
            <a:blip r:embed="rId6"/>
            <a:stretch/>
          </p:blipFill>
          <p:spPr>
            <a:xfrm>
              <a:off x="-79200" y="1139760"/>
              <a:ext cx="23716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0" y="1219320"/>
              <a:ext cx="2209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c99ff"/>
                  </a:solidFill>
                  <a:latin typeface="Century Gothic"/>
                </a:rPr>
                <a:t>The source is the beginning of a river and the mouth is the e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304920" y="347760"/>
            <a:ext cx="8010360" cy="14875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9"/>
          <p:cNvSpPr/>
          <p:nvPr/>
        </p:nvSpPr>
        <p:spPr>
          <a:xfrm>
            <a:off x="76212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2c"/>
                </a:solidFill>
                <a:latin typeface="Rockwell Condensed"/>
              </a:rPr>
              <a:t>A plateau is a high flat land a plain is not hig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Picture 6" descr="http://divingintolearning.wikispaces.com/file/view/Plains.jpg/184778861/Plains.jpg"/>
          <p:cNvPicPr/>
          <p:nvPr/>
        </p:nvPicPr>
        <p:blipFill>
          <a:blip r:embed="rId2"/>
          <a:stretch/>
        </p:blipFill>
        <p:spPr>
          <a:xfrm>
            <a:off x="228600" y="3429000"/>
            <a:ext cx="4154400" cy="2771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http://media-cdn.tripadvisor.com/media/photo-s/01/6b/49/96/waterberg-plateau-park.jpg"/>
          <p:cNvPicPr/>
          <p:nvPr/>
        </p:nvPicPr>
        <p:blipFill>
          <a:blip r:embed="rId3"/>
          <a:stretch/>
        </p:blipFill>
        <p:spPr>
          <a:xfrm>
            <a:off x="4648320" y="3505320"/>
            <a:ext cx="3962160" cy="26445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1676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91320" y="3048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384120" y="-79200"/>
            <a:ext cx="8156520" cy="14572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0" y="1447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2"/>
                </a:solidFill>
                <a:latin typeface="Times New Roman"/>
              </a:rPr>
              <a:t>A glacier moves on land an iceberg is in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8" descr="http://www.rubypenguin.com/Alaska/Day7/12VassarGlacier02.JPG"/>
          <p:cNvPicPr/>
          <p:nvPr/>
        </p:nvPicPr>
        <p:blipFill>
          <a:blip r:embed="rId2"/>
          <a:stretch/>
        </p:blipFill>
        <p:spPr>
          <a:xfrm>
            <a:off x="228600" y="358128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http://www.alaska-in-pictures.com/data/media/19/tracy-arm-iceberg_1377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57880" cy="3000600"/>
          </a:xfrm>
          <a:prstGeom prst="rect">
            <a:avLst/>
          </a:prstGeom>
          <a:ln w="0">
            <a:noFill/>
          </a:ln>
        </p:spPr>
      </p:pic>
      <p:sp>
        <p:nvSpPr>
          <p:cNvPr id="354" name="TextBox 9"/>
          <p:cNvSpPr/>
          <p:nvPr/>
        </p:nvSpPr>
        <p:spPr>
          <a:xfrm>
            <a:off x="14479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Box 10"/>
          <p:cNvSpPr/>
          <p:nvPr/>
        </p:nvSpPr>
        <p:spPr>
          <a:xfrm>
            <a:off x="59436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384120" y="92160"/>
            <a:ext cx="8004240" cy="15904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67057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Ravie"/>
              </a:rPr>
              <a:t>p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6" descr="http://t2.gstatic.com/images?q=tbn:ANd9GcStIihgQTNKQuC9S4yh2T62yid0XoEOrnJWRir0qUk6ABTktFv6gmbm6LF0uA"/>
          <p:cNvPicPr/>
          <p:nvPr/>
        </p:nvPicPr>
        <p:blipFill>
          <a:blip r:embed="rId2"/>
          <a:stretch/>
        </p:blipFill>
        <p:spPr>
          <a:xfrm>
            <a:off x="838080" y="2362320"/>
            <a:ext cx="5562720" cy="36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8174160" cy="1927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http://upload.wikimedia.org/wikipedia/commons/thumb/1/1d/Satellite_image_of_Cape_peninsula.jpg/250px-Satellite_image_of_Cape_peninsul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819520"/>
            <a:ext cx="5878800" cy="3714480"/>
          </a:xfrm>
          <a:prstGeom prst="rect">
            <a:avLst/>
          </a:prstGeom>
          <a:ln w="0">
            <a:noFill/>
          </a:ln>
        </p:spPr>
      </p:pic>
      <p:sp>
        <p:nvSpPr>
          <p:cNvPr id="309" name="Down Arrow 11"/>
          <p:cNvSpPr/>
          <p:nvPr/>
        </p:nvSpPr>
        <p:spPr>
          <a:xfrm>
            <a:off x="4419720" y="4343400"/>
            <a:ext cx="121896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3" descr=""/>
          <p:cNvPicPr/>
          <p:nvPr/>
        </p:nvPicPr>
        <p:blipFill>
          <a:blip r:embed="rId1"/>
          <a:stretch/>
        </p:blipFill>
        <p:spPr>
          <a:xfrm>
            <a:off x="384120" y="512640"/>
            <a:ext cx="8004240" cy="16272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6" descr="http://gowaterfalling.com/waterfalls/images/full/mi/vslateriverfalls1.jpg"/>
          <p:cNvPicPr/>
          <p:nvPr/>
        </p:nvPicPr>
        <p:blipFill>
          <a:blip r:embed="rId2"/>
          <a:stretch/>
        </p:blipFill>
        <p:spPr>
          <a:xfrm>
            <a:off x="2057400" y="2438280"/>
            <a:ext cx="3124080" cy="416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3" descr=""/>
          <p:cNvPicPr/>
          <p:nvPr/>
        </p:nvPicPr>
        <p:blipFill>
          <a:blip r:embed="rId1"/>
          <a:stretch/>
        </p:blipFill>
        <p:spPr>
          <a:xfrm>
            <a:off x="384120" y="146160"/>
            <a:ext cx="8332920" cy="1927080"/>
          </a:xfrm>
          <a:prstGeom prst="rect">
            <a:avLst/>
          </a:prstGeom>
          <a:ln w="0">
            <a:noFill/>
          </a:ln>
        </p:spPr>
      </p:pic>
      <p:sp>
        <p:nvSpPr>
          <p:cNvPr id="314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6" descr="http://upload.wikimedia.org/wikipedia/commons/5/5a/Green_Izalco_Volcano.JPG"/>
          <p:cNvPicPr/>
          <p:nvPr/>
        </p:nvPicPr>
        <p:blipFill>
          <a:blip r:embed="rId2"/>
          <a:stretch/>
        </p:blipFill>
        <p:spPr>
          <a:xfrm>
            <a:off x="609480" y="2235240"/>
            <a:ext cx="5943600" cy="39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3" descr=""/>
          <p:cNvPicPr/>
          <p:nvPr/>
        </p:nvPicPr>
        <p:blipFill>
          <a:blip r:embed="rId1"/>
          <a:stretch/>
        </p:blipFill>
        <p:spPr>
          <a:xfrm>
            <a:off x="530280" y="-12600"/>
            <a:ext cx="7937280" cy="2286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lat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457200" y="2590920"/>
            <a:ext cx="58784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3" descr=""/>
          <p:cNvPicPr/>
          <p:nvPr/>
        </p:nvPicPr>
        <p:blipFill>
          <a:blip r:embed="rId1"/>
          <a:stretch/>
        </p:blipFill>
        <p:spPr>
          <a:xfrm>
            <a:off x="304920" y="-244440"/>
            <a:ext cx="8431200" cy="26161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http://www.geoblox.com/images/ria_coast_cl.jpg"/>
          <p:cNvPicPr/>
          <p:nvPr/>
        </p:nvPicPr>
        <p:blipFill>
          <a:blip r:embed="rId2"/>
          <a:stretch/>
        </p:blipFill>
        <p:spPr>
          <a:xfrm>
            <a:off x="533520" y="2968560"/>
            <a:ext cx="5181480" cy="388944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6553080" y="3429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iner Hand ITC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3" descr=""/>
          <p:cNvPicPr/>
          <p:nvPr/>
        </p:nvPicPr>
        <p:blipFill>
          <a:blip r:embed="rId1"/>
          <a:stretch/>
        </p:blipFill>
        <p:spPr>
          <a:xfrm>
            <a:off x="304920" y="-182520"/>
            <a:ext cx="8875440" cy="20476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gneto"/>
              </a:rPr>
              <a:t>Glac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6" descr="http://www.iceagenow.com/Perito_Moreno_Glacier.jpg"/>
          <p:cNvPicPr/>
          <p:nvPr/>
        </p:nvPicPr>
        <p:blipFill>
          <a:blip r:embed="rId2"/>
          <a:stretch/>
        </p:blipFill>
        <p:spPr>
          <a:xfrm>
            <a:off x="609480" y="2133720"/>
            <a:ext cx="57913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3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7557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6" descr="http://t1.gstatic.com/images?q=tbn:ANd9GcRnuGgjmv5_YxxGWVYEyidaq7bPIamJLJQ_1SDjR_12HtGhXw13liusroWkbg"/>
          <p:cNvPicPr/>
          <p:nvPr/>
        </p:nvPicPr>
        <p:blipFill>
          <a:blip r:embed="rId2"/>
          <a:stretch/>
        </p:blipFill>
        <p:spPr>
          <a:xfrm>
            <a:off x="609480" y="2209680"/>
            <a:ext cx="605952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30T19:28:53Z</dcterms:modified>
  <cp:revision>32</cp:revision>
  <dc:subject/>
  <dc:title>PowerPoint Presentation</dc:title>
</cp:coreProperties>
</file>